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APPLAUS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ED6-39FF-4CD6-A5A1-F28EBD16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0FB-3FDF-43CE-89D1-8AC87B9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7F5-B594-4157-9024-08CFB9E4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0E0-B2F7-4F23-B7FF-F54D5C74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903-E264-4965-BE52-BFA6DA92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EF4-D964-4B4E-BC1B-74B2B04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053-E5C1-4697-B8B6-F68BA06D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478-81B5-4D4E-B77E-120854EC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8FF-B920-4B73-83C5-64AEDC41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4D1-FCDE-489D-8C25-B2498BD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25A-87DA-4795-B88C-8A334F4A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823-5C4F-46C3-A3A3-25F416D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B297-3687-4394-97E0-C9FC4BDF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76212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02920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5029200"/>
            <a:ext cx="1524240" cy="914400"/>
          </a:xfrm>
          <a:custGeom>
            <a:avLst/>
            <a:gdLst>
              <a:gd name="textAreaLeft" fmla="*/ 59040 w 1524240"/>
              <a:gd name="textAreaRight" fmla="*/ 1465200 w 15242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05680" y="685800"/>
            <a:ext cx="2482560" cy="5486400"/>
          </a:xfrm>
          <a:prstGeom prst="rect">
            <a:avLst/>
          </a:prstGeom>
          <a:solidFill>
            <a:srgbClr val="3333cc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76212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 million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1145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47492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5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183528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25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19384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6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55420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9145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6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7348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8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63384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99420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3545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713120"/>
            <a:ext cx="241128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10552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543384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5792760"/>
            <a:ext cx="2411280" cy="360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 for $4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ontinents are on earth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 for $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at year was Bill gate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 for $16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co-wrote “We are the World’ with Michael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o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t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ing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ha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90720" y="304920"/>
            <a:ext cx="73152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 for $3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Italian word for a square or market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a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3049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 for $64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Sumo Wrestlers throw into the ring before a ma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c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3049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 for 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trained professional uses a theodolite in the course of his or he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g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 for $2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obel Peace Prize is given out in what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sin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enh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ho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 for $5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two official languages of the Olympic mo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nc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nis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nc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 for $1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se planets is the larg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2767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05120" y="10666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Work 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have won 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51055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57840" y="685800"/>
            <a:ext cx="2482920" cy="5486400"/>
          </a:xfrm>
          <a:prstGeom prst="rect">
            <a:avLst/>
          </a:prstGeom>
          <a:solidFill>
            <a:srgbClr val="3333cc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00680" y="76212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 million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00680" y="11145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00680" y="147492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50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00680" y="183528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25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00680" y="219384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6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00680" y="255420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00680" y="29145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6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0680" y="3273480"/>
            <a:ext cx="241128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8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00680" y="363384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4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00680" y="399420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00680" y="43545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,0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00680" y="471312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50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00680" y="507348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3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00680" y="543384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00680" y="5792760"/>
            <a:ext cx="241128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1   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$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5410080" y="487692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83808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dear 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ad luc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't you try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71600" y="6858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you have elected to use Dial a Friend - which of these friends would you like to c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243828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key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50292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han Buck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3733920"/>
            <a:ext cx="2209680" cy="99036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8184" h="21600">
                <a:moveTo>
                  <a:pt x="0" y="0"/>
                </a:moveTo>
                <a:lnTo>
                  <a:pt x="48184" y="0"/>
                </a:lnTo>
                <a:lnTo>
                  <a:pt x="48184" y="21600"/>
                </a:lnTo>
                <a:lnTo>
                  <a:pt x="0" y="21600"/>
                </a:lnTo>
                <a:close/>
              </a:path>
              <a:path fill="lightenLess" w="48184" h="21600">
                <a:moveTo>
                  <a:pt x="0" y="0"/>
                </a:moveTo>
                <a:lnTo>
                  <a:pt x="48184" y="0"/>
                </a:lnTo>
                <a:lnTo>
                  <a:pt x="46784" y="1400"/>
                </a:lnTo>
                <a:lnTo>
                  <a:pt x="1400" y="1400"/>
                </a:lnTo>
                <a:close/>
              </a:path>
              <a:path fill="darken" w="48184" h="21600">
                <a:moveTo>
                  <a:pt x="48184" y="0"/>
                </a:moveTo>
                <a:lnTo>
                  <a:pt x="48184" y="21600"/>
                </a:lnTo>
                <a:lnTo>
                  <a:pt x="46784" y="20200"/>
                </a:lnTo>
                <a:lnTo>
                  <a:pt x="46784" y="1400"/>
                </a:lnTo>
                <a:close/>
              </a:path>
              <a:path fill="darkenLess" w="48184" h="21600">
                <a:moveTo>
                  <a:pt x="48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84" y="20200"/>
                </a:lnTo>
                <a:close/>
              </a:path>
              <a:path fill="lighten" w="48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H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867280" y="49528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85" name="" hidden="1"/>
          <p:cNvSpPr/>
          <p:nvPr/>
        </p:nvSpPr>
        <p:spPr>
          <a:xfrm>
            <a:off x="5079960" y="635040"/>
            <a:ext cx="2540160" cy="2539800"/>
          </a:xfrm>
          <a:custGeom>
            <a:avLst/>
            <a:gdLst>
              <a:gd name="textAreaLeft" fmla="*/ 93960 w 2540160"/>
              <a:gd name="textAreaRight" fmla="*/ 2446200 w 2540160"/>
              <a:gd name="textAreaTop" fmla="*/ 93960 h 2539800"/>
              <a:gd name="textAreaBottom" fmla="*/ 2028600 h 2539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's easy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co .. of cours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71600" y="121932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you have elected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one of your life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are ready click continue to return to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44956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4267080"/>
            <a:ext cx="2057400" cy="838440"/>
          </a:xfrm>
          <a:custGeom>
            <a:avLst/>
            <a:gdLst>
              <a:gd name="textAreaLeft" fmla="*/ 54360 w 2057400"/>
              <a:gd name="textAreaRight" fmla="*/ 2003040 w 2057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2990" h="21600">
                <a:moveTo>
                  <a:pt x="0" y="0"/>
                </a:moveTo>
                <a:lnTo>
                  <a:pt x="52990" y="0"/>
                </a:lnTo>
                <a:lnTo>
                  <a:pt x="52990" y="21600"/>
                </a:lnTo>
                <a:lnTo>
                  <a:pt x="0" y="21600"/>
                </a:lnTo>
                <a:close/>
              </a:path>
              <a:path fill="lightenLess" w="52990" h="21600">
                <a:moveTo>
                  <a:pt x="0" y="0"/>
                </a:moveTo>
                <a:lnTo>
                  <a:pt x="52990" y="0"/>
                </a:lnTo>
                <a:lnTo>
                  <a:pt x="51590" y="1400"/>
                </a:lnTo>
                <a:lnTo>
                  <a:pt x="1400" y="1400"/>
                </a:lnTo>
                <a:close/>
              </a:path>
              <a:path fill="darken" w="52990" h="21600">
                <a:moveTo>
                  <a:pt x="52990" y="0"/>
                </a:moveTo>
                <a:lnTo>
                  <a:pt x="52990" y="21600"/>
                </a:lnTo>
                <a:lnTo>
                  <a:pt x="51590" y="20200"/>
                </a:lnTo>
                <a:lnTo>
                  <a:pt x="51590" y="1400"/>
                </a:lnTo>
                <a:close/>
              </a:path>
              <a:path fill="darkenLess" w="52990" h="21600">
                <a:moveTo>
                  <a:pt x="52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90" y="20200"/>
                </a:lnTo>
                <a:close/>
              </a:path>
              <a:path fill="lighten" w="52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14479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GRAT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266688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$1,000,00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5943600" y="53341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2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03640" y="5334120"/>
            <a:ext cx="468360" cy="30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11640" y="2666880"/>
            <a:ext cx="451080" cy="2971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03640" y="2133720"/>
            <a:ext cx="392040" cy="35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11640" y="5486400"/>
            <a:ext cx="451080" cy="152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03640" y="5410080"/>
            <a:ext cx="3920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11640" y="5410080"/>
            <a:ext cx="45108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3880" y="2514600"/>
            <a:ext cx="501840" cy="3124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03640" y="5334120"/>
            <a:ext cx="468360" cy="30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11640" y="5257800"/>
            <a:ext cx="451080" cy="380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03880" y="2514600"/>
            <a:ext cx="501840" cy="3124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03640" y="2438280"/>
            <a:ext cx="468360" cy="3200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11640" y="5486400"/>
            <a:ext cx="451080" cy="152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53352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Times New Roman"/>
              </a:rPr>
              <a:t>Hello s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219320"/>
            <a:ext cx="548640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Do You Want To Be A Millionair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guess you know how to play the ga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ember, at any time, if you are unsure about a question, then you have 3 lifelines that you can choo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5486400" y="556272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03640" y="4267080"/>
            <a:ext cx="468360" cy="1371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11640" y="3429000"/>
            <a:ext cx="4510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1640" y="5334120"/>
            <a:ext cx="451080" cy="304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03880" y="4114800"/>
            <a:ext cx="501840" cy="1523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13680" y="3352680"/>
            <a:ext cx="482400" cy="228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03640" y="4038480"/>
            <a:ext cx="468360" cy="1600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11640" y="5257800"/>
            <a:ext cx="451080" cy="3808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13680" y="3962520"/>
            <a:ext cx="482400" cy="1676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03640" y="3962520"/>
            <a:ext cx="468360" cy="1676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11640" y="4495680"/>
            <a:ext cx="45108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03880" y="3733920"/>
            <a:ext cx="501840" cy="19047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13680" y="4648320"/>
            <a:ext cx="482400" cy="990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11640" y="3962520"/>
            <a:ext cx="451080" cy="1676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03880" y="5486400"/>
            <a:ext cx="501840" cy="152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3680" y="4038480"/>
            <a:ext cx="482400" cy="1600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11640" y="3124080"/>
            <a:ext cx="451080" cy="2514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03640" y="5410080"/>
            <a:ext cx="46836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11640" y="4800600"/>
            <a:ext cx="45108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03880" y="3429000"/>
            <a:ext cx="50184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13680" y="2895480"/>
            <a:ext cx="482400" cy="2743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03640" y="4952880"/>
            <a:ext cx="468360" cy="685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11640" y="4800600"/>
            <a:ext cx="45108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203880" y="4648320"/>
            <a:ext cx="425520" cy="990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3680" y="4648320"/>
            <a:ext cx="406440" cy="990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03640" y="3657600"/>
            <a:ext cx="468360" cy="1981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11640" y="3124080"/>
            <a:ext cx="451080" cy="2514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03880" y="5410080"/>
            <a:ext cx="50184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>
            <a:hlinkClick r:id="" action="ppaction://hlinkshowjump?jump=previousslide"/>
          </p:cNvPr>
          <p:cNvSpPr/>
          <p:nvPr/>
        </p:nvSpPr>
        <p:spPr>
          <a:xfrm>
            <a:off x="838080" y="44956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304920"/>
            <a:ext cx="5715000" cy="6248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59892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03640" y="4191120"/>
            <a:ext cx="468360" cy="14475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11640" y="3657600"/>
            <a:ext cx="451080" cy="1981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03880" y="3581280"/>
            <a:ext cx="501840" cy="2057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13680" y="5410080"/>
            <a:ext cx="482400" cy="228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3400" y="49528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263400" y="426708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263400" y="365760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263400" y="30481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63400" y="2362320"/>
            <a:ext cx="3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5638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276720" y="17524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055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6292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2200" y="5638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 for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se dogs was famous for coming h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Rin Tin 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4382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133720" y="2209680"/>
            <a:ext cx="556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ness - I don't have a c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say Bruce Springsteen - but it's only a gu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67280" y="49528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57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133720" y="220968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at's easy 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osco .. of cours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867280" y="49528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5242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 for 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se numbers does not make a whole number when divided by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 for 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something unexpected happens you might say, ‘that’s the way the cookie’ wh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u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 for 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e of which actor appears on his brand of salad dre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 Gi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lv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l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m Cru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04920"/>
            <a:ext cx="7010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 for 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green vegetable is associated with Pope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b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t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uc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304920"/>
            <a:ext cx="7010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 for $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colour belt do you buy for your outfit when beginning ju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3526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19810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724280"/>
            <a:ext cx="8076960" cy="17528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5181480"/>
            <a:ext cx="1981080" cy="99072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84" h="21600">
                <a:moveTo>
                  <a:pt x="0" y="0"/>
                </a:moveTo>
                <a:lnTo>
                  <a:pt x="43184" y="0"/>
                </a:lnTo>
                <a:lnTo>
                  <a:pt x="43184" y="21600"/>
                </a:lnTo>
                <a:lnTo>
                  <a:pt x="0" y="21600"/>
                </a:lnTo>
                <a:close/>
              </a:path>
              <a:path fill="lightenLess" w="43184" h="21600">
                <a:moveTo>
                  <a:pt x="0" y="0"/>
                </a:moveTo>
                <a:lnTo>
                  <a:pt x="43184" y="0"/>
                </a:lnTo>
                <a:lnTo>
                  <a:pt x="41784" y="1400"/>
                </a:lnTo>
                <a:lnTo>
                  <a:pt x="1400" y="1400"/>
                </a:lnTo>
                <a:close/>
              </a:path>
              <a:path fill="darken" w="43184" h="21600">
                <a:moveTo>
                  <a:pt x="43184" y="0"/>
                </a:moveTo>
                <a:lnTo>
                  <a:pt x="43184" y="21600"/>
                </a:lnTo>
                <a:lnTo>
                  <a:pt x="41784" y="20200"/>
                </a:lnTo>
                <a:lnTo>
                  <a:pt x="41784" y="1400"/>
                </a:lnTo>
                <a:close/>
              </a:path>
              <a:path fill="darkenLess" w="43184" h="21600">
                <a:moveTo>
                  <a:pt x="4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4" y="20200"/>
                </a:lnTo>
                <a:close/>
              </a:path>
              <a:path fill="lighten" w="4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2209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505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2:01:35Z</dcterms:created>
  <dc:creator>E1000</dc:creator>
  <dc:description/>
  <dc:language>en-US</dc:language>
  <cp:lastModifiedBy>john</cp:lastModifiedBy>
  <cp:lastPrinted>2002-10-31T22:27:04Z</cp:lastPrinted>
  <dcterms:modified xsi:type="dcterms:W3CDTF">2008-05-28T11:21:34Z</dcterms:modified>
  <cp:revision>99</cp:revision>
  <dc:subject/>
  <dc:title>No Slide Title</dc:title>
</cp:coreProperties>
</file>